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solidFill>
          <a:srgbClr val="c0c0c0"/>
        </a:solidFill>
        <a:ln w="3240">
          <a:solidFill>
            <a:srgbClr val="000000"/>
          </a:solidFill>
          <a:round/>
        </a:ln>
      </c:spPr>
    </c:floor>
    <c:sideWall>
      <c:spPr>
        <a:noFill/>
        <a:ln w="12600">
          <a:solidFill>
            <a:srgbClr val="000000"/>
          </a:solidFill>
          <a:round/>
        </a:ln>
      </c:spPr>
    </c:sideWall>
    <c:backWall>
      <c:spPr>
        <a:noFill/>
        <a:ln w="12600">
          <a:solidFill>
            <a:srgbClr val="000000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163000956272277"/>
          <c:y val="0.0382462686567164"/>
          <c:w val="0.824697904894375"/>
          <c:h val="0.815671641791045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осток</c:v>
                </c:pt>
              </c:strCache>
            </c:strRef>
          </c:tx>
          <c:spPr>
            <a:solidFill>
              <a:srgbClr val="3891a7"/>
            </a:solidFill>
            <a:ln w="11880">
              <a:solidFill>
                <a:srgbClr val="000000"/>
              </a:solidFill>
              <a:round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704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</c:v>
                </c:pt>
                <c:pt idx="1">
                  <c:v>2020</c:v>
                </c:pt>
                <c:pt idx="2">
                  <c:v>202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4</c:v>
                </c:pt>
                <c:pt idx="1">
                  <c:v>49</c:v>
                </c:pt>
                <c:pt idx="2">
                  <c:v>5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Запад</c:v>
                </c:pt>
              </c:strCache>
            </c:strRef>
          </c:tx>
          <c:spPr>
            <a:solidFill>
              <a:srgbClr val="ff0000"/>
            </a:solidFill>
            <a:ln w="11880">
              <a:solidFill>
                <a:srgbClr val="000000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11880">
                <a:solidFill>
                  <a:srgbClr val="000000"/>
                </a:solidFill>
                <a:round/>
              </a:ln>
            </c:spPr>
          </c:dPt>
          <c:dPt>
            <c:idx val="1"/>
            <c:invertIfNegative val="0"/>
            <c:spPr>
              <a:solidFill>
                <a:srgbClr val="ff0000"/>
              </a:solidFill>
              <a:ln w="11880">
                <a:solidFill>
                  <a:srgbClr val="000000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ff0000"/>
              </a:solidFill>
              <a:ln w="11880">
                <a:solidFill>
                  <a:srgbClr val="000000"/>
                </a:solidFill>
                <a:round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155182449798911"/>
                  <c:y val="-0.042648209962961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1704" spc="-1" strike="noStrike">
                      <a:solidFill>
                        <a:srgbClr val="000000"/>
                      </a:solidFill>
                      <a:latin typeface="Tahom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0730667477976184"/>
                  <c:y val="-0.0506148415610785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1704" spc="-1" strike="noStrike">
                      <a:solidFill>
                        <a:srgbClr val="000000"/>
                      </a:solidFill>
                      <a:latin typeface="Tahom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35033555323729"/>
                  <c:y val="-0.030674712384061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1704" spc="-1" strike="noStrike">
                      <a:solidFill>
                        <a:srgbClr val="000000"/>
                      </a:solidFill>
                      <a:latin typeface="Tahom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704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</c:v>
                </c:pt>
                <c:pt idx="1">
                  <c:v>2020</c:v>
                </c:pt>
                <c:pt idx="2">
                  <c:v>202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82</c:v>
                </c:pt>
                <c:pt idx="1">
                  <c:v>204</c:v>
                </c:pt>
                <c:pt idx="2">
                  <c:v>241</c:v>
                </c:pt>
              </c:numCache>
            </c:numRef>
          </c:val>
        </c:ser>
        <c:ser>
          <c:idx val="2"/>
          <c:order val="2"/>
          <c:spPr>
            <a:solidFill>
              <a:srgbClr val="8dc765"/>
            </a:solidFill>
            <a:ln w="11880">
              <a:solidFill>
                <a:srgbClr val="000000"/>
              </a:solidFill>
              <a:round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704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</c:v>
                </c:pt>
                <c:pt idx="1">
                  <c:v>2020</c:v>
                </c:pt>
                <c:pt idx="2">
                  <c:v>202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</c:numCache>
            </c:numRef>
          </c:val>
        </c:ser>
        <c:gapWidth val="150"/>
        <c:shape val="box"/>
        <c:axId val="45642257"/>
        <c:axId val="71368570"/>
        <c:axId val="0"/>
      </c:bar3DChart>
      <c:catAx>
        <c:axId val="456422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288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1" sz="1893" spc="-1" strike="noStrike">
                <a:solidFill>
                  <a:srgbClr val="000000"/>
                </a:solidFill>
                <a:latin typeface="Tahoma"/>
                <a:ea typeface="Tahoma"/>
              </a:defRPr>
            </a:pPr>
          </a:p>
        </c:txPr>
        <c:crossAx val="71368570"/>
        <c:crosses val="autoZero"/>
        <c:auto val="1"/>
        <c:lblAlgn val="ctr"/>
        <c:lblOffset val="100"/>
        <c:noMultiLvlLbl val="0"/>
      </c:catAx>
      <c:valAx>
        <c:axId val="71368570"/>
        <c:scaling>
          <c:orientation val="minMax"/>
        </c:scaling>
        <c:delete val="0"/>
        <c:axPos val="l"/>
        <c:majorGridlines>
          <c:spPr>
            <a:ln w="2880">
              <a:solidFill>
                <a:srgbClr val="000000"/>
              </a:solidFill>
              <a:round/>
            </a:ln>
          </c:spPr>
        </c:majorGridlines>
        <c:title>
          <c:tx>
            <c:rich>
              <a:bodyPr rot="0"/>
              <a:lstStyle/>
              <a:p>
                <a:pPr>
                  <a:defRPr b="1" lang="ru-RU" sz="1704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  <a:r>
                  <a:rPr b="1" lang="ru-RU" sz="1704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Чел.</a:t>
                </a:r>
              </a:p>
            </c:rich>
          </c:tx>
          <c:layout>
            <c:manualLayout>
              <c:xMode val="edge"/>
              <c:yMode val="edge"/>
              <c:x val="0.0159958271755194"/>
              <c:y val="0.413899253731343"/>
            </c:manualLayout>
          </c:layout>
          <c:overlay val="0"/>
          <c:spPr>
            <a:noFill/>
            <a:ln w="2412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288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1" sz="1704" spc="-1" strike="noStrike">
                <a:solidFill>
                  <a:srgbClr val="000000"/>
                </a:solidFill>
                <a:latin typeface="Tahoma"/>
                <a:ea typeface="Tahoma"/>
              </a:defRPr>
            </a:pPr>
          </a:p>
        </c:txPr>
        <c:crossAx val="45642257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solidFill>
          <a:srgbClr val="c0c0c0"/>
        </a:solidFill>
        <a:ln w="3240">
          <a:solidFill>
            <a:srgbClr val="000000"/>
          </a:solidFill>
          <a:round/>
        </a:ln>
      </c:spPr>
    </c:floor>
    <c:sideWall>
      <c:spPr>
        <a:noFill/>
        <a:ln w="12600">
          <a:solidFill>
            <a:srgbClr val="000000"/>
          </a:solidFill>
          <a:round/>
        </a:ln>
      </c:spPr>
    </c:sideWall>
    <c:backWall>
      <c:spPr>
        <a:noFill/>
        <a:ln w="12600">
          <a:solidFill>
            <a:srgbClr val="000000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220867526377491"/>
          <c:y val="0.0407248101034136"/>
          <c:w val="0.766846424384525"/>
          <c:h val="0.860803514230805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осток</c:v>
                </c:pt>
              </c:strCache>
            </c:strRef>
          </c:tx>
          <c:spPr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779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</c:v>
                </c:pt>
                <c:pt idx="1">
                  <c:v>2020</c:v>
                </c:pt>
                <c:pt idx="2">
                  <c:v>202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4</c:v>
                </c:pt>
                <c:pt idx="1">
                  <c:v>76.6</c:v>
                </c:pt>
                <c:pt idx="2">
                  <c:v>82.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Запад</c:v>
                </c:pt>
              </c:strCache>
            </c:strRef>
          </c:tx>
          <c:spPr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c:spPr>
          </c:dPt>
          <c:dPt>
            <c:idx val="1"/>
            <c:invertIfNegative val="0"/>
            <c:spPr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114155971335382"/>
                  <c:y val="-0.106746174469931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1779" spc="-1" strike="noStrike">
                      <a:solidFill>
                        <a:srgbClr val="000000"/>
                      </a:solidFill>
                      <a:latin typeface="Tahom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112436559307602"/>
                  <c:y val="-0.095868530395413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1779" spc="-1" strike="noStrike">
                      <a:solidFill>
                        <a:srgbClr val="000000"/>
                      </a:solidFill>
                      <a:latin typeface="Tahom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127801404446604"/>
                  <c:y val="-0.0966677141213951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1779" spc="-1" strike="noStrike">
                      <a:solidFill>
                        <a:srgbClr val="000000"/>
                      </a:solidFill>
                      <a:latin typeface="Tahom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779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</c:v>
                </c:pt>
                <c:pt idx="1">
                  <c:v>2020</c:v>
                </c:pt>
                <c:pt idx="2">
                  <c:v>202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18</c:v>
                </c:pt>
                <c:pt idx="1">
                  <c:v>197.8</c:v>
                </c:pt>
                <c:pt idx="2">
                  <c:v>205.7</c:v>
                </c:pt>
              </c:numCache>
            </c:numRef>
          </c:val>
        </c:ser>
        <c:ser>
          <c:idx val="2"/>
          <c:order val="2"/>
          <c:spPr>
            <a:solidFill>
              <a:srgbClr val="8dc765"/>
            </a:solidFill>
            <a:ln w="12600">
              <a:solidFill>
                <a:srgbClr val="000000"/>
              </a:solidFill>
              <a:round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779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19</c:v>
                </c:pt>
                <c:pt idx="1">
                  <c:v>2020</c:v>
                </c:pt>
                <c:pt idx="2">
                  <c:v>202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</c:numCache>
            </c:numRef>
          </c:val>
        </c:ser>
        <c:gapWidth val="150"/>
        <c:shape val="box"/>
        <c:axId val="70303081"/>
        <c:axId val="38151814"/>
        <c:axId val="0"/>
      </c:bar3DChart>
      <c:catAx>
        <c:axId val="7030308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1" sz="1187" spc="-1" strike="noStrike">
                <a:solidFill>
                  <a:srgbClr val="000000"/>
                </a:solidFill>
                <a:latin typeface="Tahoma"/>
                <a:ea typeface="Tahoma"/>
              </a:defRPr>
            </a:pPr>
          </a:p>
        </c:txPr>
        <c:crossAx val="38151814"/>
        <c:crosses val="autoZero"/>
        <c:auto val="1"/>
        <c:lblAlgn val="ctr"/>
        <c:lblOffset val="100"/>
        <c:noMultiLvlLbl val="0"/>
      </c:catAx>
      <c:valAx>
        <c:axId val="38151814"/>
        <c:scaling>
          <c:orientation val="minMax"/>
        </c:scaling>
        <c:delete val="0"/>
        <c:axPos val="l"/>
        <c:majorGridlines>
          <c:spPr>
            <a:ln w="3240">
              <a:solidFill>
                <a:srgbClr val="000000"/>
              </a:solidFill>
              <a:round/>
            </a:ln>
          </c:spPr>
        </c:majorGridlines>
        <c:title>
          <c:tx>
            <c:rich>
              <a:bodyPr rot="0"/>
              <a:lstStyle/>
              <a:p>
                <a:pPr>
                  <a:defRPr b="1" lang="ru-RU" sz="1779" spc="-1" strike="noStrike">
                    <a:solidFill>
                      <a:srgbClr val="000000"/>
                    </a:solidFill>
                    <a:latin typeface="Tahoma"/>
                    <a:ea typeface="Tahoma"/>
                  </a:defRPr>
                </a:pPr>
                <a:r>
                  <a:rPr b="1" lang="ru-RU" sz="1779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млн.руб</a:t>
                </a:r>
              </a:p>
            </c:rich>
          </c:tx>
          <c:layout>
            <c:manualLayout>
              <c:xMode val="edge"/>
              <c:yMode val="edge"/>
              <c:x val="0.0135052754982415"/>
              <c:y val="0.436533357737714"/>
            </c:manualLayout>
          </c:layout>
          <c:overlay val="0"/>
          <c:spPr>
            <a:noFill/>
            <a:ln w="2520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1" sz="1779" spc="-1" strike="noStrike">
                <a:solidFill>
                  <a:srgbClr val="000000"/>
                </a:solidFill>
                <a:latin typeface="Tahoma"/>
                <a:ea typeface="Tahoma"/>
              </a:defRPr>
            </a:pPr>
          </a:p>
        </c:txPr>
        <c:crossAx val="70303081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A5D-B8E9-4844-B52B-F32E6793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A22-3C0E-4C53-8409-99CC04DA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9EA-4844-414D-9B55-C7E7AA1E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1F2-9588-493E-9B45-9EA143B9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10E7-8A06-4452-8E3F-95C76658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5ED2-42F7-434A-A3D5-9F5F4EA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B3B5-D9C6-4AF3-A177-53476FCC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D0E8-5931-4754-8ADA-9006652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AC41-2FCF-406D-ACF9-13D6BA42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DF1-5FCB-46DC-82FE-F3293094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91A-331A-460E-AED3-ECC83E1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775-9F10-46FA-BAA4-E51AD91D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C23A-4F18-44CA-9F95-49619A0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5949-1B64-419C-98DF-F623AAB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83A6-D345-4363-80FA-D782EEA7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4AB6-56E8-404F-B5ED-5923C03C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0DD-E581-4718-9339-43EF9BBA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D857-00A2-4F53-9B50-11D4CD92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572A-0733-462F-A33F-4080AA7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7255-BE6F-4C7E-87CC-6F9B4190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F222-EF7B-4EF5-8E86-B02B3E8D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52DD-9051-480D-B96A-7092DF2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29D-0C54-494C-B152-D5BC7597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5380-0FF4-4438-9F30-625C656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8A38-83F0-44C9-A417-A0E2411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9086-ADA6-421A-B231-86C462C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2B8F-83DA-4C75-97A1-4CF4447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AFFD-B884-464D-B439-6EE5E38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8B2A-802A-45AB-83CC-B8A566C0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FA02-58B0-4C7D-B765-757D3DF4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9CE0-746B-4DD2-A203-DC48EF8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BBB2-D4BC-4C4F-9C29-C06DF373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8A6A-68EC-43CD-94D6-2DDD4E71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93F-CFB4-47AA-82DE-9DAF34F0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AA85-09CF-473F-B98A-4AE2981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D2A1-F8A9-4044-8206-6F4A39F0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E264-9D5B-442D-8AD7-7E1ED84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0583-6518-407D-8206-90E3477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713F-1ACA-4726-9D15-B893A1B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20EB-BA06-4415-ACE5-F94E606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F920-022D-405A-8428-BCEBCE7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74E8-F623-4C51-8632-38991329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3D17-B777-4201-AE2B-F8204C35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E443-08A3-41DE-A79A-5A5E8DAF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F7-AF5B-48E9-B0A4-CB2AAF6C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7E3A-2C19-47F3-AD72-EB7E724C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3B01-53BB-4D8B-AB72-C6C6453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DD54-46F4-4351-8611-7070B656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911D9-8B5E-47AE-BCA3-338142E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1F4E-A554-49F8-8CC9-1B31E88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CC42-9208-4356-826B-356328E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8950-2147-4A55-B959-F30066D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47BF-03C6-4A8E-A1B9-E199C41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B6978-77D8-4F51-AB23-260FC853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4A5BB-CC3B-480E-A0F9-8C847D40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876-91CA-411D-8C77-336355E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8B67-C764-445C-A458-04AB26E9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E713-0CE1-4E92-BF94-8F4855BE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EC98-DEDD-4EE5-9E11-335A976D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244C-3E5B-4F6A-B781-007A279B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94DC5-01D3-4B32-9D82-EF2092A9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6CC26-5483-4C84-B90D-822EAB6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DDA0-C797-4F85-92C6-0FE534FF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F29C3-D43E-4EEB-84AE-EB2E893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B535-9176-414C-AA72-33E7094F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B3DF-5841-4FE0-9BED-CCFAD49C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C9B-708F-4AD4-8B63-6DF1A1B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994B-7010-4E03-98FC-711DB66C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94CD-5E22-4A7E-95E0-5B009E45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1AED-B3CD-4FD7-AD8C-DA9C0DC3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84E9-C586-400F-9F89-2F3EB43D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C0B4B-8163-4A97-8B4C-41BDC7D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B595-FDC2-41BD-A081-9C640AD5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5D70E-A528-4AFE-8459-0D11572D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07F2-3878-4BFB-9652-B3AC3ACE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E6A2-E8DC-42E5-84E3-7307923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E0CD-7FE5-4832-A7F0-41BC1CA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CE2-9C5D-469C-AC53-697EB42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4ABD-23E1-44B6-B4C9-6BE5783F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269C-D1F6-421B-9E9C-9A16659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55F2-ABA1-483A-9F90-00BD68B9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CEF8-E8D9-44E5-B880-7277620C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793A-50B0-493A-A6AD-50490806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FC4-F2E3-48E6-B221-82B3921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B38639-5795-47A3-9D3E-ABE590286AE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2B8FE0-78FC-4A37-A627-178B0D8F4CA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3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4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240DF0-C119-47A5-9B72-48A30FC21F2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0E02EF-4FDA-4C55-BD90-5AF2B548FA7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6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7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8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9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1014480" y="0"/>
            <a:ext cx="81291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BE79E4-D811-4D73-99BF-57BB65375D4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4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5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E5F58A-A171-42C9-B68A-6CE2030199D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0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1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2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3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16720"/>
            <a:ext cx="380952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ts val="2001"/>
              </a:lnSpc>
              <a:buNone/>
            </a:pPr>
            <a:r>
              <a:rPr b="1" lang="ru-RU" sz="2200" spc="-1" strike="noStrike" cap="all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406880"/>
            <a:ext cx="3809520" cy="69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body"/>
          </p:nvPr>
        </p:nvSpPr>
        <p:spPr>
          <a:xfrm>
            <a:off x="457200" y="2133720"/>
            <a:ext cx="8152920" cy="3992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9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F2419E-B510-4B22-A964-8AC571C3F2E9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Усть-Пристанский  район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7241760" cy="389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81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81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чет о деятельности Администрации район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 социально-экономическому развитию Усть-Пристанского района в 2021 год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81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81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81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81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Социальная поддерж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1403280" y="1557360"/>
            <a:ext cx="7313400" cy="38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Group 36"/>
          <p:cNvGraphicFramePr/>
          <p:nvPr/>
        </p:nvGraphicFramePr>
        <p:xfrm>
          <a:off x="1187640" y="1772640"/>
          <a:ext cx="7561080" cy="4223880"/>
        </p:xfrm>
        <a:graphic>
          <a:graphicData uri="http://schemas.openxmlformats.org/drawingml/2006/table">
            <a:tbl>
              <a:tblPr/>
              <a:tblGrid>
                <a:gridCol w="4825800"/>
                <a:gridCol w="1366560"/>
                <a:gridCol w="13683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оциальные выплаты,  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  в т. числ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обия на дет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на оплату ЖК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ые денежные выплаты (ЕД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404040"/>
                          </a:solidFill>
                          <a:latin typeface="Times New Roman"/>
                        </a:rPr>
                        <a:t>1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Рынок труда, занятость 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403280" y="1557360"/>
            <a:ext cx="7313400" cy="38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Group 38"/>
          <p:cNvGraphicFramePr/>
          <p:nvPr/>
        </p:nvGraphicFramePr>
        <p:xfrm>
          <a:off x="1475640" y="1700640"/>
          <a:ext cx="7416360" cy="4536000"/>
        </p:xfrm>
        <a:graphic>
          <a:graphicData uri="http://schemas.openxmlformats.org/drawingml/2006/table">
            <a:tbl>
              <a:tblPr/>
              <a:tblGrid>
                <a:gridCol w="3730680"/>
                <a:gridCol w="1130400"/>
                <a:gridCol w="1131840"/>
                <a:gridCol w="1423080"/>
              </a:tblGrid>
              <a:tr h="864720">
                <a:tc>
                  <a:txBody>
                    <a:bodyPr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безработных, состоящих на учете,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безработицы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ность на рынке труда, чел./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56" name="Заголовок 3"/>
          <p:cNvSpPr/>
          <p:nvPr/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Охрана  труд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"/>
          <p:cNvSpPr/>
          <p:nvPr/>
        </p:nvSpPr>
        <p:spPr>
          <a:xfrm>
            <a:off x="1259640" y="1917000"/>
            <a:ext cx="748836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ая оценка условий труда –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6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бочих м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на охрану труда на 1 работающего –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676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ват медосмотрами  профвредников  -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99,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м финансирования по муниципальной программе «Улучшение условий и  охраны труда в Усть-Пристанском районе  на 2020-2024 годы» 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3,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ыс. руб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58" name="Заголовок 3"/>
          <p:cNvSpPr/>
          <p:nvPr/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4300" spc="-1" strike="noStrike">
              <a:solidFill>
                <a:srgbClr val="572314"/>
              </a:solidFill>
              <a:latin typeface="Arial Narrow"/>
            </a:endParaRPr>
          </a:p>
        </p:txBody>
      </p:sp>
      <p:sp useBgFill="1">
        <p:nvSpPr>
          <p:cNvPr id="359" name="Заголовок 3"/>
          <p:cNvSpPr/>
          <p:nvPr/>
        </p:nvSpPr>
        <p:spPr>
          <a:xfrm>
            <a:off x="1403640" y="33264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ЖК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1187640" y="1484640"/>
            <a:ext cx="7956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Подготовка к отопительному сезону, освоение субсидии – 5426 тыс. рублей в т. 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МКОУ Красноярская СОШ - 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628,4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 тыс. руб  (2 котла, нас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КОУ Вяткинская  СОШ –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310,0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ыс. руб. ( кот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Коробейникоский сельсовет  -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 127,5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тыс. руб  (нас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Краснодарский сельсовет  -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370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тыс. руб   ( кот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Нижнегусихинский сельсовет –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  477,0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ыс. руб.  (котел, нас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яткинский сельсовет   –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497,5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тыс. руб  (котел,  нас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нтральная котельная в с.Усть-Чарышская Пристань  -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2810,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тыс. рублей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котел, топка, дымосос 2, насос 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61" name="Заголовок 3"/>
          <p:cNvSpPr/>
          <p:nvPr/>
        </p:nvSpPr>
        <p:spPr>
          <a:xfrm>
            <a:off x="1331640" y="26064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78000"/>
          </a:bodyPr>
          <a:p>
            <a:pPr algn="ct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одонапорная баш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. Вят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C:\Users\1763\Desktop\фото для презентации\Н-О.JPG"/>
          <p:cNvPicPr/>
          <p:nvPr/>
        </p:nvPicPr>
        <p:blipFill>
          <a:blip r:embed="rId1"/>
          <a:stretch/>
        </p:blipFill>
        <p:spPr>
          <a:xfrm>
            <a:off x="-15849720" y="-11887200"/>
            <a:ext cx="4799520" cy="3599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1763\Desktop\фото для презентации\Н-О.JPG"/>
          <p:cNvPicPr/>
          <p:nvPr/>
        </p:nvPicPr>
        <p:blipFill>
          <a:blip r:embed="rId2"/>
          <a:stretch/>
        </p:blipFill>
        <p:spPr>
          <a:xfrm>
            <a:off x="-15849720" y="-11887200"/>
            <a:ext cx="4799520" cy="359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Users\1763\Desktop\фото для презентации\Н-О.JPG"/>
          <p:cNvPicPr/>
          <p:nvPr/>
        </p:nvPicPr>
        <p:blipFill>
          <a:blip r:embed="rId3"/>
          <a:stretch/>
        </p:blipFill>
        <p:spPr>
          <a:xfrm>
            <a:off x="-15849720" y="-11887200"/>
            <a:ext cx="4799520" cy="3599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8"/>
          <p:cNvSpPr/>
          <p:nvPr/>
        </p:nvSpPr>
        <p:spPr>
          <a:xfrm>
            <a:off x="5076000" y="1484640"/>
            <a:ext cx="3816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льный ремонт водонапорной баш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тоимость проекта -272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тыс. рублей  в том чи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2700 тыс.руб –краево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icture 2"/>
          <p:cNvSpPr/>
          <p:nvPr/>
        </p:nvSpPr>
        <p:spPr>
          <a:xfrm>
            <a:off x="1048320" y="1604880"/>
            <a:ext cx="3662280" cy="489636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icture 4"/>
          <p:cNvSpPr/>
          <p:nvPr/>
        </p:nvSpPr>
        <p:spPr>
          <a:xfrm>
            <a:off x="5580000" y="3084480"/>
            <a:ext cx="2592000" cy="346536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370" name="Заголовок 3"/>
          <p:cNvSpPr/>
          <p:nvPr/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77000"/>
          </a:bodyPr>
          <a:p>
            <a:pPr algn="ct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ект поддержки местных инициатив (с. Коловый Мыс 2021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788000" y="1556640"/>
            <a:ext cx="403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 водонапорной башни   1041,9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- тыс. руб в т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726,9 тыс. руб–краево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165 тыс. руб – внебюджетны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icture 2"/>
          <p:cNvSpPr/>
          <p:nvPr/>
        </p:nvSpPr>
        <p:spPr>
          <a:xfrm>
            <a:off x="1763640" y="1917000"/>
            <a:ext cx="3190680" cy="42678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icture 4"/>
          <p:cNvSpPr/>
          <p:nvPr/>
        </p:nvSpPr>
        <p:spPr>
          <a:xfrm>
            <a:off x="5652000" y="2709000"/>
            <a:ext cx="2664000" cy="356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 useBgFill="1"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ЖКХ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434960" y="1700640"/>
            <a:ext cx="7499160" cy="454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фальтирование ул. Пушкина в с.Усть-Чарышская Пристань (208 м.)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64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ыс. руб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1135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тыс. руб. – краевой бюджет,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514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ыс. руб.  – районный бюджет  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ущий ремонт и содержание дорог  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8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с. ру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         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379" name="Заголовок 3"/>
          <p:cNvSpPr/>
          <p:nvPr/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76000"/>
          </a:bodyPr>
          <a:p>
            <a:pPr algn="ct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ект поддержки местных инициатив (с.Нижнеозерное 2021г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5004000" y="1556640"/>
            <a:ext cx="381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онт автомобильной дороги  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-1440 тыс. руб в т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1000 тыс. руб–краево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icture 2"/>
          <p:cNvSpPr/>
          <p:nvPr/>
        </p:nvSpPr>
        <p:spPr>
          <a:xfrm>
            <a:off x="1979640" y="1628640"/>
            <a:ext cx="3190680" cy="430344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icture 4"/>
          <p:cNvSpPr/>
          <p:nvPr/>
        </p:nvSpPr>
        <p:spPr>
          <a:xfrm>
            <a:off x="5724000" y="2493000"/>
            <a:ext cx="2710800" cy="365616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385" name="Заголовок 3"/>
          <p:cNvSpPr/>
          <p:nvPr/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77000"/>
          </a:bodyPr>
          <a:p>
            <a:pPr algn="ct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ект поддержки местных инициатив (с.Чеканиха 2021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4788000" y="1556640"/>
            <a:ext cx="403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ивная площадка  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- 1274,1 тыс. руб      в т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1000 тыс. руб–краево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146,6 тыс. руб – внебюджетны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icture 2"/>
          <p:cNvSpPr/>
          <p:nvPr/>
        </p:nvSpPr>
        <p:spPr>
          <a:xfrm>
            <a:off x="1308960" y="1725480"/>
            <a:ext cx="3190680" cy="425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icture 4"/>
          <p:cNvSpPr/>
          <p:nvPr/>
        </p:nvSpPr>
        <p:spPr>
          <a:xfrm>
            <a:off x="4932000" y="3285000"/>
            <a:ext cx="4032000" cy="302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Бюджет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403280" y="1557360"/>
            <a:ext cx="7313400" cy="38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10"/>
          <p:cNvGraphicFramePr/>
          <p:nvPr/>
        </p:nvGraphicFramePr>
        <p:xfrm>
          <a:off x="446040" y="1679400"/>
          <a:ext cx="7676640" cy="3933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92" name="Text Box 7"/>
          <p:cNvSpPr/>
          <p:nvPr/>
        </p:nvSpPr>
        <p:spPr>
          <a:xfrm>
            <a:off x="1042920" y="5589720"/>
            <a:ext cx="2592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Собственн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924360" y="5589720"/>
            <a:ext cx="46764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d0b0b"/>
                </a:solidFill>
                <a:latin typeface="Tahoma"/>
              </a:rPr>
              <a:t>Финансовая помощь из краев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19840" y="27756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Демография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187280" y="2924280"/>
            <a:ext cx="7529040" cy="252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6"/>
          <p:cNvGraphicFramePr/>
          <p:nvPr/>
        </p:nvGraphicFramePr>
        <p:xfrm>
          <a:off x="611280" y="2276640"/>
          <a:ext cx="8281800" cy="3858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31" name="Text Box 7"/>
          <p:cNvSpPr/>
          <p:nvPr/>
        </p:nvSpPr>
        <p:spPr>
          <a:xfrm>
            <a:off x="2340000" y="1773360"/>
            <a:ext cx="2879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/>
                </a:solidFill>
                <a:latin typeface="Tahoma"/>
              </a:rPr>
              <a:t>Рожд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588000" y="1773360"/>
            <a:ext cx="208728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мер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Земля и имущество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403280" y="1557360"/>
            <a:ext cx="7313400" cy="38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Group 40"/>
          <p:cNvGraphicFramePr/>
          <p:nvPr/>
        </p:nvGraphicFramePr>
        <p:xfrm>
          <a:off x="1187640" y="1484640"/>
          <a:ext cx="7560720" cy="5115240"/>
        </p:xfrm>
        <a:graphic>
          <a:graphicData uri="http://schemas.openxmlformats.org/drawingml/2006/table">
            <a:tbl>
              <a:tblPr/>
              <a:tblGrid>
                <a:gridCol w="5328360"/>
                <a:gridCol w="1127520"/>
                <a:gridCol w="110484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щадьтыс. Г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действующих  договоров  аренды земельных участков 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говора аренды на земли сельскохозяйственного назначения, 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говора аренды на земли населенных пунктов, 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слено арендной платы, млн.  руб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ило  арендной платы, млн.  руб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960480" y="1268640"/>
            <a:ext cx="8157960" cy="504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ill Sans MT"/>
              </a:rPr>
              <a:t>3 ДОУ – юридические ли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БДОУ «Детский сад «Незабудка» с.Усть-Пристань,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БДОУ «Детский сад «Аленушка» с.Усть-Пристань,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КДОУ «Детский сад «Гнездышко» с.Коробейниково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ill Sans MT"/>
              </a:rPr>
              <a:t>4 дошкольные группы при ОУ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КОУ «Вяткиннская СОШ»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КОУ «Елбанская СОШ»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КОУ «Нижнеозернинская СОШ»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КОУ «Нижнегусихинская СОШ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ill Sans MT"/>
              </a:rPr>
              <a:t>1 филиал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«Детский сад «Солнышко» - филиал  МКДОУ «Детский сад «Гнездышко с.Коробейниково»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475640" y="125640"/>
            <a:ext cx="749916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Образование.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Дошкольное образование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99520" y="1845000"/>
            <a:ext cx="7639200" cy="42278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а 1 сентября 2021 года дошкольным  образованием в районе охвачено -  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284</a:t>
            </a:r>
            <a:r>
              <a:rPr b="0" lang="ru-RU" sz="28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ребенка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от 1,6  до 7 лет.)-  </a:t>
            </a:r>
            <a:r>
              <a:rPr b="0" lang="ru-RU" sz="2800" spc="-1" strike="noStrike">
                <a:solidFill>
                  <a:srgbClr val="0000ff"/>
                </a:solidFill>
                <a:latin typeface="Gill Sans MT"/>
              </a:rPr>
              <a:t>64,2</a:t>
            </a:r>
            <a:r>
              <a:rPr b="1" lang="ru-RU" sz="2800" spc="-1" strike="noStrike">
                <a:solidFill>
                  <a:srgbClr val="0000ff"/>
                </a:solidFill>
                <a:latin typeface="Gill Sans MT"/>
              </a:rPr>
              <a:t>%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т общей численности детей дошкольного возраста от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до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лет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Gill Sans MT"/>
              </a:rPr>
              <a:t>Очерёдности в детские сады нет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00" name="Заголовок 3"/>
          <p:cNvSpPr/>
          <p:nvPr/>
        </p:nvSpPr>
        <p:spPr>
          <a:xfrm>
            <a:off x="1403640" y="246960"/>
            <a:ext cx="7230600" cy="130968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39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0000"/>
                </a:solidFill>
                <a:latin typeface="Arial Narrow"/>
              </a:rPr>
              <a:t>Дошкольное образование: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 Narrow"/>
              </a:rPr>
              <a:t>охват, очеред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Таблица 3"/>
          <p:cNvGraphicFramePr/>
          <p:nvPr/>
        </p:nvGraphicFramePr>
        <p:xfrm>
          <a:off x="1523880" y="1397160"/>
          <a:ext cx="6828480" cy="3615840"/>
        </p:xfrm>
        <a:graphic>
          <a:graphicData uri="http://schemas.openxmlformats.org/drawingml/2006/table">
            <a:tbl>
              <a:tblPr/>
              <a:tblGrid>
                <a:gridCol w="1707120"/>
                <a:gridCol w="1707120"/>
                <a:gridCol w="1707120"/>
                <a:gridCol w="1707120"/>
              </a:tblGrid>
              <a:tr h="180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-20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-20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-20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-20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80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0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2</a:t>
                      </a: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</a:tr>
            </a:tbl>
          </a:graphicData>
        </a:graphic>
      </p:graphicFrame>
      <p:sp>
        <p:nvSpPr>
          <p:cNvPr id="402" name="TextBox 2"/>
          <p:cNvSpPr/>
          <p:nvPr/>
        </p:nvSpPr>
        <p:spPr>
          <a:xfrm>
            <a:off x="1365840" y="5338800"/>
            <a:ext cx="700416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2021-2022 учебном год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йоне функционировали 8  школ- юридически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 6 фил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403" name="Заголовок 3"/>
          <p:cNvSpPr/>
          <p:nvPr/>
        </p:nvSpPr>
        <p:spPr>
          <a:xfrm>
            <a:off x="1266120" y="190440"/>
            <a:ext cx="7086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8000"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Общее образование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Количество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5"/>
          <p:cNvSpPr/>
          <p:nvPr/>
        </p:nvSpPr>
        <p:spPr>
          <a:xfrm>
            <a:off x="1043640" y="1556640"/>
            <a:ext cx="8100000" cy="4680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1043640" y="1989000"/>
            <a:ext cx="2304000" cy="367200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c00"/>
                </a:solidFill>
                <a:latin typeface="Gill Sans MT"/>
              </a:rPr>
              <a:t>Всего выпускников, получивших аттестаты и свидетельства - </a:t>
            </a:r>
            <a:r>
              <a:rPr b="1" lang="ru-RU" sz="3600" spc="-1" strike="noStrike">
                <a:solidFill>
                  <a:srgbClr val="ffcc00"/>
                </a:solidFill>
                <a:latin typeface="Gill Sans MT"/>
              </a:rPr>
              <a:t>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трелка вправо 3"/>
          <p:cNvSpPr/>
          <p:nvPr/>
        </p:nvSpPr>
        <p:spPr>
          <a:xfrm>
            <a:off x="3492000" y="1556640"/>
            <a:ext cx="3096000" cy="158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cc00"/>
                </a:solidFill>
                <a:latin typeface="Gill Sans MT"/>
              </a:rPr>
              <a:t>Пришли в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трелка вправо 4"/>
          <p:cNvSpPr/>
          <p:nvPr/>
        </p:nvSpPr>
        <p:spPr>
          <a:xfrm>
            <a:off x="3492000" y="3789000"/>
            <a:ext cx="3168000" cy="216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cc00"/>
                </a:solidFill>
                <a:latin typeface="Gill Sans MT"/>
              </a:rPr>
              <a:t>Поступили в учреждения проф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6876360" y="1412640"/>
            <a:ext cx="1872000" cy="1728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chemeClr val="lt1"/>
                </a:solidFill>
                <a:latin typeface="Gill Sans MT"/>
              </a:rPr>
              <a:t>49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8"/>
          <p:cNvSpPr/>
          <p:nvPr/>
        </p:nvSpPr>
        <p:spPr>
          <a:xfrm>
            <a:off x="7021080" y="3957840"/>
            <a:ext cx="1872000" cy="187200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ffcc00"/>
                </a:solidFill>
                <a:latin typeface="Gill Sans MT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410" name="Заголовок 3"/>
          <p:cNvSpPr/>
          <p:nvPr/>
        </p:nvSpPr>
        <p:spPr>
          <a:xfrm>
            <a:off x="1403640" y="246960"/>
            <a:ext cx="7230600" cy="130968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0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аспределение выпуск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9 кла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1"/>
          <p:cNvSpPr/>
          <p:nvPr/>
        </p:nvSpPr>
        <p:spPr>
          <a:xfrm>
            <a:off x="6876360" y="1736640"/>
            <a:ext cx="1872000" cy="187200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ffcc00"/>
                </a:solidFill>
                <a:latin typeface="Gill Sans MT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4"/>
          <p:cNvSpPr/>
          <p:nvPr/>
        </p:nvSpPr>
        <p:spPr>
          <a:xfrm>
            <a:off x="1547640" y="1484640"/>
            <a:ext cx="6912360" cy="4968000"/>
          </a:xfrm>
          <a:prstGeom prst="rect">
            <a:avLst/>
          </a:prstGeom>
          <a:noFill/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"/>
          <p:cNvSpPr/>
          <p:nvPr/>
        </p:nvSpPr>
        <p:spPr>
          <a:xfrm>
            <a:off x="1649160" y="1623600"/>
            <a:ext cx="3024000" cy="107964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Gill Sans MT"/>
              </a:rPr>
              <a:t>Вс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Gill Sans MT"/>
              </a:rPr>
              <a:t>выпускников -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право 3"/>
          <p:cNvSpPr/>
          <p:nvPr/>
        </p:nvSpPr>
        <p:spPr>
          <a:xfrm>
            <a:off x="4860000" y="1520640"/>
            <a:ext cx="1872000" cy="122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c000"/>
                </a:solidFill>
                <a:latin typeface="Gill Sans MT"/>
              </a:rPr>
              <a:t>Сдавал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5"/>
          <p:cNvSpPr/>
          <p:nvPr/>
        </p:nvSpPr>
        <p:spPr>
          <a:xfrm>
            <a:off x="6886080" y="1330200"/>
            <a:ext cx="1367640" cy="122364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cc00"/>
                </a:solidFill>
                <a:latin typeface="Gill Sans MT"/>
              </a:rPr>
              <a:t>3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низ 6"/>
          <p:cNvSpPr/>
          <p:nvPr/>
        </p:nvSpPr>
        <p:spPr>
          <a:xfrm>
            <a:off x="1912680" y="2781000"/>
            <a:ext cx="2946960" cy="22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c000"/>
                </a:solidFill>
                <a:latin typeface="Gill Sans MT"/>
              </a:rPr>
              <a:t>Поступили в учреждения проф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низ 7"/>
          <p:cNvSpPr/>
          <p:nvPr/>
        </p:nvSpPr>
        <p:spPr>
          <a:xfrm>
            <a:off x="5508000" y="2781000"/>
            <a:ext cx="2745720" cy="2160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c000"/>
                </a:solidFill>
                <a:latin typeface="Gill Sans MT"/>
              </a:rPr>
              <a:t>Поступили в В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2411640" y="5229360"/>
            <a:ext cx="1944000" cy="86364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c000"/>
                </a:solidFill>
                <a:latin typeface="Gill Sans MT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9"/>
          <p:cNvSpPr/>
          <p:nvPr/>
        </p:nvSpPr>
        <p:spPr>
          <a:xfrm>
            <a:off x="6084000" y="5085360"/>
            <a:ext cx="1872000" cy="971280"/>
          </a:xfrm>
          <a:prstGeom prst="rect">
            <a:avLst/>
          </a:prstGeom>
          <a:solidFill>
            <a:srgbClr val="3891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c000"/>
                </a:solidFill>
                <a:latin typeface="Gill Sans MT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420" name="Заголовок 3"/>
          <p:cNvSpPr/>
          <p:nvPr/>
        </p:nvSpPr>
        <p:spPr>
          <a:xfrm>
            <a:off x="1547640" y="246960"/>
            <a:ext cx="7086600" cy="123768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56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аспределение выпускников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Num" idx="2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F5C49B0-A353-44A7-A0B8-7010C41C0594}" type="slidenum">
              <a:rPr b="0" lang="ru-RU" sz="1200" spc="-1" strike="noStrike">
                <a:solidFill>
                  <a:srgbClr val="8b8b8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Рисунок 3" descr=""/>
          <p:cNvPicPr/>
          <p:nvPr/>
        </p:nvPicPr>
        <p:blipFill>
          <a:blip r:embed="rId1"/>
          <a:stretch/>
        </p:blipFill>
        <p:spPr>
          <a:xfrm>
            <a:off x="1050120" y="2205000"/>
            <a:ext cx="4045320" cy="34758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4" descr=""/>
          <p:cNvPicPr/>
          <p:nvPr/>
        </p:nvPicPr>
        <p:blipFill>
          <a:blip r:embed="rId2"/>
          <a:stretch/>
        </p:blipFill>
        <p:spPr>
          <a:xfrm>
            <a:off x="5223960" y="1742040"/>
            <a:ext cx="3600720" cy="4801320"/>
          </a:xfrm>
          <a:prstGeom prst="rect">
            <a:avLst/>
          </a:prstGeom>
          <a:ln w="0">
            <a:noFill/>
          </a:ln>
        </p:spPr>
      </p:pic>
      <p:sp useBgFill="1">
        <p:nvSpPr>
          <p:cNvPr id="424" name="Заголовок 3"/>
          <p:cNvSpPr/>
          <p:nvPr/>
        </p:nvSpPr>
        <p:spPr>
          <a:xfrm>
            <a:off x="1526760" y="266040"/>
            <a:ext cx="7086600" cy="123768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Краснодарская О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425" name="Заголовок 3"/>
          <p:cNvSpPr/>
          <p:nvPr/>
        </p:nvSpPr>
        <p:spPr>
          <a:xfrm>
            <a:off x="1547640" y="246960"/>
            <a:ext cx="7086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Точки рост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2051640" y="1340640"/>
            <a:ext cx="604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КОУ «Нижнеозерни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1" descr=""/>
          <p:cNvPicPr/>
          <p:nvPr/>
        </p:nvPicPr>
        <p:blipFill>
          <a:blip r:embed="rId1"/>
          <a:stretch/>
        </p:blipFill>
        <p:spPr>
          <a:xfrm>
            <a:off x="1187640" y="191520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" descr=""/>
          <p:cNvPicPr/>
          <p:nvPr/>
        </p:nvPicPr>
        <p:blipFill>
          <a:blip r:embed="rId2"/>
          <a:stretch/>
        </p:blipFill>
        <p:spPr>
          <a:xfrm>
            <a:off x="5292000" y="2135520"/>
            <a:ext cx="3471120" cy="46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429" name="Заголовок 3"/>
          <p:cNvSpPr/>
          <p:nvPr/>
        </p:nvSpPr>
        <p:spPr>
          <a:xfrm>
            <a:off x="1547640" y="246960"/>
            <a:ext cx="7086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Точки рост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2051640" y="1340640"/>
            <a:ext cx="604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КОУ «Нижнеозерни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Рисунок 1" descr=""/>
          <p:cNvPicPr/>
          <p:nvPr/>
        </p:nvPicPr>
        <p:blipFill>
          <a:blip r:embed="rId1"/>
          <a:stretch/>
        </p:blipFill>
        <p:spPr>
          <a:xfrm>
            <a:off x="1522800" y="1949760"/>
            <a:ext cx="2159280" cy="46760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2" descr=""/>
          <p:cNvPicPr/>
          <p:nvPr/>
        </p:nvPicPr>
        <p:blipFill>
          <a:blip r:embed="rId2"/>
          <a:stretch/>
        </p:blipFill>
        <p:spPr>
          <a:xfrm>
            <a:off x="4068000" y="2853000"/>
            <a:ext cx="4824000" cy="22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433" name="Заголовок 3"/>
          <p:cNvSpPr/>
          <p:nvPr/>
        </p:nvSpPr>
        <p:spPr>
          <a:xfrm>
            <a:off x="1547640" y="246960"/>
            <a:ext cx="7086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Точки рост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2051640" y="1340640"/>
            <a:ext cx="604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«Усть-Пристанская 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"/>
          <p:cNvPicPr/>
          <p:nvPr/>
        </p:nvPicPr>
        <p:blipFill>
          <a:blip r:embed="rId1"/>
          <a:stretch/>
        </p:blipFill>
        <p:spPr>
          <a:xfrm>
            <a:off x="5151600" y="2061000"/>
            <a:ext cx="3291480" cy="43887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3" descr=""/>
          <p:cNvPicPr/>
          <p:nvPr/>
        </p:nvPicPr>
        <p:blipFill>
          <a:blip r:embed="rId2"/>
          <a:stretch/>
        </p:blipFill>
        <p:spPr>
          <a:xfrm>
            <a:off x="1115640" y="2421000"/>
            <a:ext cx="4035600" cy="30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27480" y="424800"/>
            <a:ext cx="5065560" cy="7718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Arial Narrow"/>
              </a:rPr>
              <a:t>Сельское хозяйство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бъект 5"/>
          <p:cNvSpPr/>
          <p:nvPr/>
        </p:nvSpPr>
        <p:spPr>
          <a:xfrm>
            <a:off x="3203640" y="1197000"/>
            <a:ext cx="5654160" cy="483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Group 41"/>
          <p:cNvGraphicFramePr/>
          <p:nvPr/>
        </p:nvGraphicFramePr>
        <p:xfrm>
          <a:off x="1116000" y="1557360"/>
          <a:ext cx="7740360" cy="4343040"/>
        </p:xfrm>
        <a:graphic>
          <a:graphicData uri="http://schemas.openxmlformats.org/drawingml/2006/table">
            <a:tbl>
              <a:tblPr/>
              <a:tblGrid>
                <a:gridCol w="4520880"/>
                <a:gridCol w="1574640"/>
                <a:gridCol w="1644480"/>
              </a:tblGrid>
              <a:tr h="54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ениевод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овый сбор зерновых и зернобобовых -всего, то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.ч. в сельхозпредприяти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 КФ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6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9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жайность- всего, ц/г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.ч. в сельхозпредприяти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 КФ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437" name="Заголовок 3"/>
          <p:cNvSpPr/>
          <p:nvPr/>
        </p:nvSpPr>
        <p:spPr>
          <a:xfrm>
            <a:off x="1547640" y="246960"/>
            <a:ext cx="7086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Точки рост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2051640" y="1340640"/>
            <a:ext cx="604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«Усть-Пристанская 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2" descr=""/>
          <p:cNvPicPr/>
          <p:nvPr/>
        </p:nvPicPr>
        <p:blipFill>
          <a:blip r:embed="rId1"/>
          <a:stretch/>
        </p:blipFill>
        <p:spPr>
          <a:xfrm>
            <a:off x="1530360" y="2133000"/>
            <a:ext cx="7092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60440" y="1702440"/>
            <a:ext cx="338436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Л –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200 уч-ся )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фильные смены –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145 уч-ся)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Вязание на свежем воздухе это отлично. min"/>
          <p:cNvPicPr/>
          <p:nvPr/>
        </p:nvPicPr>
        <p:blipFill>
          <a:blip r:embed="rId1"/>
          <a:stretch/>
        </p:blipFill>
        <p:spPr>
          <a:xfrm>
            <a:off x="4068000" y="1484640"/>
            <a:ext cx="4373280" cy="2916720"/>
          </a:xfrm>
          <a:prstGeom prst="rect">
            <a:avLst/>
          </a:prstGeom>
          <a:ln w="9525">
            <a:noFill/>
          </a:ln>
        </p:spPr>
      </p:pic>
      <p:sp>
        <p:nvSpPr>
          <p:cNvPr id="44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http://ustpr.edu22.info/wp-content/uploads/2020/08/IMG-20200804-WA0010-300x225.jpg"/>
          <p:cNvPicPr/>
          <p:nvPr/>
        </p:nvPicPr>
        <p:blipFill>
          <a:blip r:embed="rId2"/>
          <a:stretch/>
        </p:blipFill>
        <p:spPr>
          <a:xfrm>
            <a:off x="3420000" y="3981960"/>
            <a:ext cx="3960000" cy="2737440"/>
          </a:xfrm>
          <a:prstGeom prst="rect">
            <a:avLst/>
          </a:prstGeom>
          <a:ln w="0">
            <a:noFill/>
          </a:ln>
        </p:spPr>
      </p:pic>
      <p:sp useBgFill="1">
        <p:nvSpPr>
          <p:cNvPr id="446" name="Заголовок 3"/>
          <p:cNvSpPr/>
          <p:nvPr/>
        </p:nvSpPr>
        <p:spPr>
          <a:xfrm>
            <a:off x="611640" y="24696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 Narrow"/>
              </a:rPr>
              <a:t>ЛЕТНИЙ ОТДЫХ И ЗАНЯТОСТ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35960" y="1772640"/>
            <a:ext cx="338436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городные лаге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«Юность», «Звездочка», «Радуга»)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19 уч-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удоустройств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через Центр занятости)-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33 че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" name="Объект 3" descr=""/>
          <p:cNvPicPr/>
          <p:nvPr/>
        </p:nvPicPr>
        <p:blipFill>
          <a:blip r:embed="rId1"/>
          <a:stretch/>
        </p:blipFill>
        <p:spPr>
          <a:xfrm>
            <a:off x="4140000" y="1504800"/>
            <a:ext cx="3417480" cy="2251800"/>
          </a:xfrm>
          <a:prstGeom prst="rect">
            <a:avLst/>
          </a:prstGeom>
          <a:ln w="9525">
            <a:noFill/>
          </a:ln>
        </p:spPr>
      </p:pic>
      <p:sp>
        <p:nvSpPr>
          <p:cNvPr id="44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https://dolzvezdochka.ru/sites/default/files/lrT6PPESj8k%20%281%29.jpg"/>
          <p:cNvPicPr/>
          <p:nvPr/>
        </p:nvPicPr>
        <p:blipFill>
          <a:blip r:embed="rId2"/>
          <a:stretch/>
        </p:blipFill>
        <p:spPr>
          <a:xfrm>
            <a:off x="4804560" y="3785760"/>
            <a:ext cx="3806280" cy="2538000"/>
          </a:xfrm>
          <a:prstGeom prst="rect">
            <a:avLst/>
          </a:prstGeom>
          <a:ln w="0">
            <a:noFill/>
          </a:ln>
        </p:spPr>
      </p:pic>
      <p:sp useBgFill="1">
        <p:nvSpPr>
          <p:cNvPr id="453" name="Заголовок 3"/>
          <p:cNvSpPr/>
          <p:nvPr/>
        </p:nvSpPr>
        <p:spPr>
          <a:xfrm>
            <a:off x="611640" y="24696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 Narrow"/>
              </a:rPr>
              <a:t>ЛЕТНИЙ ОТДЫХ И ЗАНЯТОСТ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Земский учитель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600" spc="-1" strike="noStrike">
                <a:solidFill>
                  <a:srgbClr val="0000ff"/>
                </a:solidFill>
                <a:latin typeface="Gill Sans MT"/>
              </a:rPr>
              <a:t>3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олучатели краевого единовременного пособия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600" spc="-1" strike="noStrike">
                <a:solidFill>
                  <a:srgbClr val="0000ff"/>
                </a:solidFill>
                <a:latin typeface="Gill Sans MT"/>
              </a:rPr>
              <a:t>1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ибыло педагогов из районов края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600" spc="-1" strike="noStrike">
                <a:solidFill>
                  <a:srgbClr val="0000ff"/>
                </a:solidFill>
                <a:latin typeface="Gill Sans MT"/>
              </a:rPr>
              <a:t>3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55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8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507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Gill Sans MT"/>
              </a:rPr>
              <a:t>Муниципальные подъемны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-  выпускникам ССУЗов И ВУЗов, приступившим к работе в дошкольных образовательных организациях района – </a:t>
            </a:r>
            <a:r>
              <a:rPr b="0" lang="ru-RU" sz="2800" spc="-1" strike="noStrike">
                <a:solidFill>
                  <a:srgbClr val="0000ff"/>
                </a:solidFill>
                <a:latin typeface="Arial Narrow"/>
              </a:rPr>
              <a:t>10 тыс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или </a:t>
            </a:r>
            <a:r>
              <a:rPr b="0" lang="ru-RU" sz="2800" spc="-1" strike="noStrike">
                <a:solidFill>
                  <a:srgbClr val="0000ff"/>
                </a:solidFill>
                <a:latin typeface="Arial Narrow"/>
              </a:rPr>
              <a:t>15 тыс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если диплом «с отличием»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ыпускникам ССУЗов И ВУЗов, приступившим к работе в общеобразовательных организациях района – </a:t>
            </a:r>
            <a:r>
              <a:rPr b="0" lang="ru-RU" sz="2800" spc="-1" strike="noStrike">
                <a:solidFill>
                  <a:srgbClr val="0000ff"/>
                </a:solidFill>
                <a:latin typeface="Arial Narrow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тыс или </a:t>
            </a:r>
            <a:r>
              <a:rPr b="0" lang="ru-RU" sz="2800" spc="-1" strike="noStrike">
                <a:solidFill>
                  <a:srgbClr val="0000ff"/>
                </a:solidFill>
                <a:latin typeface="Arial Narrow"/>
              </a:rPr>
              <a:t>30 тыс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если диплом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ill Sans MT"/>
              </a:rPr>
              <a:t>«с отличием» ( с 01.09.2019 г.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57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8000"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ры социальной поддержки молодых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Gill Sans MT"/>
              </a:rPr>
              <a:t>Аренда жилого помеще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 компенсация за аренду жиль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Gill Sans MT"/>
              </a:rPr>
              <a:t>Доплаты к должностному окладу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ервый год работы 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30%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торой год работы 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20%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третий год работы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10%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59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8000"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ры социальной поддержки молодых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724000" y="1700640"/>
            <a:ext cx="3209040" cy="223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Проведено  в 2021году 812  культурно-массовых мероприятий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Культур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icture 2"/>
          <p:cNvSpPr/>
          <p:nvPr/>
        </p:nvSpPr>
        <p:spPr>
          <a:xfrm>
            <a:off x="1187640" y="1484640"/>
            <a:ext cx="4464000" cy="331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icture 2"/>
          <p:cNvSpPr/>
          <p:nvPr/>
        </p:nvSpPr>
        <p:spPr>
          <a:xfrm>
            <a:off x="3780000" y="3438720"/>
            <a:ext cx="5147640" cy="34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 useBgFill="1"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1419840" y="27756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Спорт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icture 2"/>
          <p:cNvSpPr/>
          <p:nvPr/>
        </p:nvSpPr>
        <p:spPr>
          <a:xfrm>
            <a:off x="1043640" y="1556640"/>
            <a:ext cx="3686040" cy="244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icture 3"/>
          <p:cNvSpPr/>
          <p:nvPr/>
        </p:nvSpPr>
        <p:spPr>
          <a:xfrm>
            <a:off x="1043640" y="4149000"/>
            <a:ext cx="3794400" cy="252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icture 4"/>
          <p:cNvSpPr/>
          <p:nvPr/>
        </p:nvSpPr>
        <p:spPr>
          <a:xfrm>
            <a:off x="4932000" y="3933000"/>
            <a:ext cx="4211640" cy="27972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5004000" y="1700640"/>
            <a:ext cx="345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Проведено  в 2021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50 спортивных   мероприятий, в том числе 6 краевых сорев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403640" y="1447920"/>
            <a:ext cx="7530480" cy="493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На учете  на 01.01.22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23 семьи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них находится   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60 детей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Поставлено на учет за год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21 семь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них находится   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16 дет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нято с учета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12 семей ( 20 детей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Лишены родительских прав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– 1 родитель  (4 детей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Ограничены в родительских  правах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-4 родителя   (9 детей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71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7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иссия по делам несовершеннолетн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403640" y="1447920"/>
            <a:ext cx="7530480" cy="493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На учете  на 01.01.22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2800" spc="-1" strike="noStrike">
                <a:solidFill>
                  <a:srgbClr val="0000ff"/>
                </a:solidFill>
                <a:latin typeface="Gill Sans MT"/>
              </a:rPr>
              <a:t>55 детей- сирот и детей, оставшихся без попечения родителей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 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На учете  на 01.01.22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2800" spc="-1" strike="noStrike">
                <a:solidFill>
                  <a:srgbClr val="0000ff"/>
                </a:solidFill>
                <a:latin typeface="Gill Sans MT"/>
              </a:rPr>
              <a:t>26 детей, переданных под опеку по заявлению  родителей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становлена  опека за год 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на 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6   несовершеннолетних  дет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73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8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ека и попечитель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Group 45"/>
          <p:cNvGraphicFramePr/>
          <p:nvPr/>
        </p:nvGraphicFramePr>
        <p:xfrm>
          <a:off x="1331640" y="1198440"/>
          <a:ext cx="7499160" cy="4825800"/>
        </p:xfrm>
        <a:graphic>
          <a:graphicData uri="http://schemas.openxmlformats.org/drawingml/2006/table">
            <a:tbl>
              <a:tblPr/>
              <a:tblGrid>
                <a:gridCol w="4695480"/>
                <a:gridCol w="1369800"/>
                <a:gridCol w="143316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отноводство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ловье КРС- всего, гол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.ч. в сельхозорганизаци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ловье коров- всего, го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овый надой молока-всего тонн  в сельхозорганизациях,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уточный привес,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ельхозорганизац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ой молока на 1 корову в сельхозорганизациях, к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 useBgFill="1"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0720" y="277200"/>
            <a:ext cx="5065560" cy="7718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Arial Narrow"/>
              </a:rPr>
              <a:t>Сельское хозяйство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403640" y="1447920"/>
            <a:ext cx="7530480" cy="493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Рассмотрено 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63 материал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из  них   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61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смотрено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возвращено на доработку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остав  правонарушений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ыпас животных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56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апрет нарушения тишины  граждан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-5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ичинение гражданам собаками вреда -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2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  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75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8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министративная коми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403640" y="1447920"/>
            <a:ext cx="7530480" cy="493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Режим ЧС   вводился 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24 раза  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Зарегистрировано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67 сообщений о пожарах и возгораниях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Причины пожаров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Gill Sans MT"/>
              </a:rPr>
              <a:t>- нарушение правил эксплуатации электрооборудования  -6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ill Sans MT"/>
              </a:rPr>
              <a:t>   </a:t>
            </a:r>
            <a:r>
              <a:rPr b="1" i="1" lang="ru-RU" sz="2800" spc="-1" strike="noStrike">
                <a:solidFill>
                  <a:srgbClr val="0000ff"/>
                </a:solidFill>
                <a:latin typeface="Gill Sans MT"/>
              </a:rPr>
              <a:t>- по неосторожности   - 10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77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7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ажданская оборона и ликвидация Ч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403640" y="1447920"/>
            <a:ext cx="7530480" cy="493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Муниципальные услуги (электронная форма)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8 услуг  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Публикации в аккаунтах   социальных сетей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900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ill Sans MT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Межведомственное электронное взаимодействие  обработано – </a:t>
            </a:r>
            <a:r>
              <a:rPr b="1" lang="ru-RU" sz="3200" spc="-1" strike="noStrike">
                <a:solidFill>
                  <a:srgbClr val="0000ff"/>
                </a:solidFill>
                <a:latin typeface="Gill Sans MT"/>
              </a:rPr>
              <a:t>1084 запроса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 useBgFill="1">
        <p:nvSpPr>
          <p:cNvPr id="479" name="Заголовок 3"/>
          <p:cNvSpPr/>
          <p:nvPr/>
        </p:nvSpPr>
        <p:spPr>
          <a:xfrm>
            <a:off x="1043640" y="116640"/>
            <a:ext cx="8022600" cy="100764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prstMaterial="metal"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numCol="1" spcCol="0" anchor="ctr">
            <a:normAutofit fontScale="67000"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сударственные и муниципальные услуг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1331640" y="1124640"/>
            <a:ext cx="7272360" cy="4111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88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Group 39"/>
          <p:cNvGraphicFramePr/>
          <p:nvPr/>
        </p:nvGraphicFramePr>
        <p:xfrm>
          <a:off x="1331640" y="2061000"/>
          <a:ext cx="7129080" cy="3533760"/>
        </p:xfrm>
        <a:graphic>
          <a:graphicData uri="http://schemas.openxmlformats.org/drawingml/2006/table">
            <a:tbl>
              <a:tblPr/>
              <a:tblGrid>
                <a:gridCol w="4732200"/>
                <a:gridCol w="1260360"/>
                <a:gridCol w="11365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ы поддерж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 на оказание поддержки в области  сельского хозя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учка от реализации  сельскохозяйственной  прод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ыль  по району  по всем сельхозтоваропроизводител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 useBgFill="1"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27480" y="424800"/>
            <a:ext cx="5065560" cy="7718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Arial Narrow"/>
              </a:rPr>
              <a:t>Сельское хозяйство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Group 42"/>
          <p:cNvGraphicFramePr/>
          <p:nvPr/>
        </p:nvGraphicFramePr>
        <p:xfrm>
          <a:off x="1434960" y="1447920"/>
          <a:ext cx="7499160" cy="4738320"/>
        </p:xfrm>
        <a:graphic>
          <a:graphicData uri="http://schemas.openxmlformats.org/drawingml/2006/table">
            <a:tbl>
              <a:tblPr/>
              <a:tblGrid>
                <a:gridCol w="3064680"/>
                <a:gridCol w="1656000"/>
                <a:gridCol w="1368000"/>
                <a:gridCol w="141012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крупным и средним предприятиям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промышленной продукции, млн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розничной  торговли, млн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платных услуг , млн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 useBgFill="1"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27480" y="424800"/>
            <a:ext cx="5065560" cy="7718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Arial Narrow"/>
              </a:rPr>
              <a:t>Потребительский рынок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4520" y="279000"/>
            <a:ext cx="7497720" cy="11426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Arial Narrow"/>
              </a:rPr>
              <a:t>МАЛЫЙ  БИЗНЕС 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403280" y="1557360"/>
            <a:ext cx="7313400" cy="38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Group 38"/>
          <p:cNvGraphicFramePr/>
          <p:nvPr/>
        </p:nvGraphicFramePr>
        <p:xfrm>
          <a:off x="1476360" y="1628640"/>
          <a:ext cx="7416360" cy="4812840"/>
        </p:xfrm>
        <a:graphic>
          <a:graphicData uri="http://schemas.openxmlformats.org/drawingml/2006/table">
            <a:tbl>
              <a:tblPr/>
              <a:tblGrid>
                <a:gridCol w="3887640"/>
                <a:gridCol w="1152000"/>
                <a:gridCol w="1080000"/>
                <a:gridCol w="1296720"/>
              </a:tblGrid>
              <a:tr h="568080">
                <a:tc>
                  <a:txBody>
                    <a:bodyPr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субъектов малого и среднего предпринимательств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занятых в  сфере малого бизнеса, че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индивидуальных предпринимателей , че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самозанятых граждан, применяющих налог на профессиональный доход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5640" y="279000"/>
            <a:ext cx="7446600" cy="84528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Arial Narrow"/>
              </a:rPr>
              <a:t>Финансово-кредитная поддержка СМСП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1403280" y="1557360"/>
            <a:ext cx="7313400" cy="38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Group 40"/>
          <p:cNvGraphicFramePr/>
          <p:nvPr/>
        </p:nvGraphicFramePr>
        <p:xfrm>
          <a:off x="1187640" y="1196640"/>
          <a:ext cx="7704360" cy="4980240"/>
        </p:xfrm>
        <a:graphic>
          <a:graphicData uri="http://schemas.openxmlformats.org/drawingml/2006/table">
            <a:tbl>
              <a:tblPr/>
              <a:tblGrid>
                <a:gridCol w="3819960"/>
                <a:gridCol w="776880"/>
                <a:gridCol w="1172880"/>
                <a:gridCol w="898920"/>
                <a:gridCol w="103572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ru-RU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 Кол-в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.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.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 через Федеральную налоговую служб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 субсидий и грантов через МИНСЕЛЬХО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 гарантий и поручительств через НО «АФР МС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8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 субсидий и грантов через управление Алтайского края по развитию предприниматель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Group 45"/>
          <p:cNvGraphicFramePr/>
          <p:nvPr/>
        </p:nvGraphicFramePr>
        <p:xfrm>
          <a:off x="1259640" y="1005120"/>
          <a:ext cx="7571160" cy="5362200"/>
        </p:xfrm>
        <a:graphic>
          <a:graphicData uri="http://schemas.openxmlformats.org/drawingml/2006/table">
            <a:tbl>
              <a:tblPr/>
              <a:tblGrid>
                <a:gridCol w="5472360"/>
                <a:gridCol w="1008000"/>
                <a:gridCol w="1090440"/>
              </a:tblGrid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реднегодовая численность населения,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106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104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занятых в экономике,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писочная численность по крупным и средним  предприятиям, ч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1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1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 по крупным и средним предприятиям, ру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 по полному кругу (по оценке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ые денежные доходы , ру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 useBgFill="1"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0720" y="277200"/>
            <a:ext cx="5065560" cy="771840"/>
          </a:xfrm>
          <a:prstGeom prst="rect">
            <a:avLst/>
          </a:prstGeom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Arial Narrow"/>
              </a:rPr>
              <a:t>Рынок труда, уровень жизни 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5500</TotalTime>
  <Application>LibreOffice/7.4.7.2$Linux_X86_64 LibreOffice_project/40$Build-2</Application>
  <AppVersion>15.0000</AppVersion>
  <Words>1496</Words>
  <Paragraphs>4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1:44:57Z</dcterms:created>
  <dc:creator>Admin</dc:creator>
  <dc:description/>
  <dc:language>en-US</dc:language>
  <cp:lastModifiedBy>тюнькина</cp:lastModifiedBy>
  <dcterms:modified xsi:type="dcterms:W3CDTF">2022-03-22T06:44:12Z</dcterms:modified>
  <cp:revision>379</cp:revision>
  <dc:subject/>
  <dc:title>Характеристика рай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3</vt:r8>
  </property>
</Properties>
</file>